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3345DE3-74DD-4577-8AA2-ACF54FB6B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16F2063-9542-4F17-B066-DC114360A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D265ECD-3B06-4D94-8F33-A7C4A52B1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D38C8DA-8EFC-44FB-AC59-EF01C9C20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380F7F5-9244-42F6-9F27-61D0D6833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1E73-8629-48F0-84CA-3D856A1A43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B2A8-7CC1-4473-AF99-C69F5D866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4BE9-F058-4FB3-A5AD-89F05CE00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3FA9-C297-4856-B210-1633C9077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75D3-F910-45D2-ADBD-17A8972D5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A5C6-39AB-49BD-8136-0F6E07FB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A83F-3671-4057-8C05-19E093F1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0392-596D-4DC6-8DBF-74DD1A41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D4AD-420F-4DC0-B6D8-180FE642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EFF99-4994-4A0E-9EDE-7634A759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EA4D-A336-470C-9116-3EA4D3C5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C4B1-39E9-4CAD-930A-716AF0589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069F1-92BB-4D54-8DA5-8DBCF9E4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E71C-B6E2-4EDC-9E75-B55D6218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865F-D80E-4DE4-BD3B-236915B2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8AF3-D26E-4E1C-A389-3DA70180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44DA-FBCF-4F53-B744-3916F8D77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9AE0-2BC4-49B5-8436-2781580F72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D2DF-6470-4812-A6C3-9BCC24309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7BE8-AEA2-4427-A485-3BB1C9017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2DBD-C220-4BF2-A165-7AD28C83F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A75B-0A1F-4E52-9524-F591FFD9C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FA59-F322-4E25-A1C7-1A6FD5D41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F4C2-F54F-4F82-90EE-F83AB5116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7786-9D75-4D21-8E9E-2568575E80B5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68360" y="64324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07 De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Methodological approaches for capturing the impact of Leader and of measures to improve quality of life in rural area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00000" y="4292640"/>
            <a:ext cx="7459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and process of the Thematic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HEG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desk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los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luding drafting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xper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ne-t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definition of relevant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ollow-up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elp make the guidance more operational to Member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8633-18F6-4569-BBC6-242D36A049C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3: VALIDATION &amp; FI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2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workshop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May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drafting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of Working Paper 3 (WP3), May 2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presentation of WP3 to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Expert Committe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arly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Fine-tuning and dissemination of guidance and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efinition of </a:t>
            </a:r>
            <a:br>
              <a:rPr sz="2000"/>
            </a:br>
            <a:r>
              <a:rPr b="1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ollow-up activiti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nd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B20F-26C4-4B99-81CE-AFCE18E75BB3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2907-3A83-4979-9DF3-E861BDD92C0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0" y="0"/>
            <a:ext cx="6516720" cy="1197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ONTENT OF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haltsplatzhalter 2"/>
          <p:cNvSpPr/>
          <p:nvPr/>
        </p:nvSpPr>
        <p:spPr>
          <a:xfrm>
            <a:off x="395280" y="1628640"/>
            <a:ext cx="82296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States’ needs for methodologic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in assessing impacts for Leader and Quality of Life (axes 3 &amp;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matic working group (TWG)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Objective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xpected results, proposed methods,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67FF-4D5D-49E8-980D-1885830A3B9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haltsplatzhalter 2"/>
          <p:cNvSpPr/>
          <p:nvPr/>
        </p:nvSpPr>
        <p:spPr>
          <a:xfrm>
            <a:off x="395280" y="148428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ssessment conducted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 (2008 &amp; 2009) in Member State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ssion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 / other contacts with evaluation community from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9116-039F-428D-96C7-F56312A6CC9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haltsplatzhalter 2"/>
          <p:cNvSpPr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indings of needs assessment for evaluation of impacts of axes 3 &amp;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adequate definitions, criteria and indicators for LEADER and Quality of Lif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ckling the qualitative nature of the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ing contributions of small-scale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ing the stimulation of cultural change through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ntangle Leader effects from deadweight, double counting, displacement and other intervention policies (viz. counterf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ing beneficiaries in the evaluation process (reliable data, active participation in the evaluatio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urrent identified challenges (draft Concept Note) complementing needs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mon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hallenging – assessing effects of the Leader approach, and contribution to improved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double scope” of Lea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cess and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ittle guidance in CM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lthough some previous experience from Leader II &amp; Leader+, &amp; Quality of Life 2000-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+ stresse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structuring a common evaluation 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…&amp; should follow an overall bottom-up approa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aps in evaluator special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ntextual knowledge,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ing with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ffuse distribution of eff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erms of time, geography, community and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MEF requirements estimating impact at: a)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cal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and b) contribution to general tren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t program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HALLENGES IN ASSESSING IMPACTS OF LEADER AND QUALITY OF LIF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46BA-0AD2-4E08-B145-737D7E02301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vide practical methodological guidance in assessing the impacts of Leader and measures to improve the Quality of Life through rural development program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e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uidance document describing state-of-the-art and current/good evaluation practice and complementary tools, to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programme evaluators/MAs to make use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optimal approaches to rural development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nd …..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select appropriate evaluation methods and tool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development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convergent methods of RDP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t EU-level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16EC-CBCE-489E-B825-02C1EAC5F49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777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3-step 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and fi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1: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initi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TW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ing the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ept N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ing and review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urrent evaluation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Leader and Qual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kick-off of the process through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9E19-9D05-41B9-A700-CE6C28617DA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8893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Concept Note, Nov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questionnaire survey of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in MS, by Dec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ocument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drafted on current practice in MS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ocument drafted on 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state-of-the-art practic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WG composition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confirmed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i) launch of TWG through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orkshop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n Brussels, Jan 26 (or 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ivity develops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raft working pap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method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corporation of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etailed current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pecific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evaluation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Member Stat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also o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lob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99DE-5D69-46AF-A744-2C5546AC5CFB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2: DRA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16280"/>
            <a:ext cx="8748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Working Paper 1 (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P1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), Mar.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workshop in MS, bringing forward detailed current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Mar 2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revised draft Working Paper 2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2), sent to MS, Apr.16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2nd workshop in MS (if required) for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urther 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Apr 29 → incorporated into Working Paper 3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3), May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32:23Z</dcterms:modified>
  <cp:revision>454</cp:revision>
  <dc:subject/>
  <dc:title>EENRD presentation</dc:title>
</cp:coreProperties>
</file>